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A94-EFCE-4F3F-8000-473BA9D4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FAA-A3BB-41C9-8AC2-A7A34E70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563-6549-4AE1-AEF9-CA4AE95E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218-C754-4CE4-A91A-BDE6A6F4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895E-8DF0-4608-8C11-2EA73E99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68CF-3CA9-4601-A220-CCB409C4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100A-A09E-4841-B10C-F19E3036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AC85-EDB8-45C3-887A-67CDCC3F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BF28-2464-4CE0-AD10-BA767184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439F-6838-4B5E-8B62-0B3C1BC6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4CE7-92DB-46A2-A2F2-F50058DC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4B9-A49A-4134-BE6B-BAD73775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DAAA-3B12-4C50-A31A-AF83AA54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4A82-3931-4EF1-BEAD-7E885112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F167-1FB5-4E7D-A3EA-59C9F97D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B0CB-E8DB-44E7-9095-A328C99D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96A1-9252-47B4-AC32-5B0AA33B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EA2-C136-4E3F-90BF-BBE218C5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132-29D6-47C5-8647-753C3FB0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057-11DD-4BEA-A57E-C4F54CC2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6E7-5799-4E28-BD47-133F3209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681-556B-4745-BC8F-6DF1A003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2B0-6221-4C27-8177-EFF7E2E5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8D0-CBCA-4947-A2F2-DF91FCDF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3BB9-DC45-4AA1-A834-47B7F038C8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9175-ECB7-4E20-81D3-542FBE7833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Podpora mana</a:t>
            </a:r>
            <a:r>
              <a:rPr b="1" lang="sk-SK" sz="4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sk-SK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mentu študentských projekto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Verdana"/>
              </a:rPr>
              <a:t>Ponuka produktu, prezentá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Členovia tím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stislav Bertušek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rek Fu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la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Vojtech Imrec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rtin Niejadlik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eter Trnovs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štud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F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S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.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. 2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017440"/>
            <a:ext cx="81169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tivá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án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nkcie systém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ide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ľo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nie projektov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 p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udzovanie projektov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ápove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ď, t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a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vé zostavy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bezpečnosť, a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ministratí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rubý návr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Podpora mana</a:t>
            </a:r>
            <a:r>
              <a:rPr b="1" lang="sk-SK" sz="4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sk-SK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mentu študentských projekto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6:35:54Z</dcterms:created>
  <dc:creator>administrator</dc:creator>
  <dc:description/>
  <dc:language>en-US</dc:language>
  <cp:lastModifiedBy>administrator</cp:lastModifiedBy>
  <dcterms:modified xsi:type="dcterms:W3CDTF">2004-10-03T18:35:12Z</dcterms:modified>
  <cp:revision>4</cp:revision>
  <dc:subject/>
  <dc:title>Virtual Private Network (VPN)</dc:title>
</cp:coreProperties>
</file>