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19F2-B529-417F-BE28-B2EC72C83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BD8-0498-49F1-A54C-88B2FE3D1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F175-8AEB-435E-9C72-AEEA640CF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35E9-C1E1-43F7-812F-7897E271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337F-5278-4F6B-9FDE-E88111D53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530D-3082-4272-BE7B-6ECD22E9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C56D-86F0-4FD8-91D1-A01CA7AE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5BBF-4493-42BD-BF78-B06478BF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058F-15C9-460A-BC92-1E1D7C17A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5E94-CC27-4F29-B614-8A77B6A0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E894-8027-4734-8C3D-526FD94C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E195-0A87-4452-A8F1-0AFD0FAC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7E9C9-FBEE-48F1-8530-63A496893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248520"/>
            <a:ext cx="11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ím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4698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boCup – Inteligencia hráč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2743200"/>
            <a:ext cx="6400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Kolenný pás doktora Lev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Jozef Drgoň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ado Kosteln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oman Kubašč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Rado Otip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artin Spá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ono Weissenstei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C7D9F-0C60-4E6C-9666-648FDEB0168A}" type="slidenum">
              <a:t>1</a:t>
            </a:fld>
          </a:p>
        </p:txBody>
      </p:sp>
    </p:spTree>
  </p:cSld>
  <p:transition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Prototy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1523880"/>
            <a:ext cx="792468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yp prototy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xploratívny prototyp - hlbšie pochopenie problémovej obl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e prototyp na zahodenie - niektoré časti sa prevezmú do finálneho produ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657600"/>
            <a:ext cx="7696080" cy="26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Účel prototy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chopenie problémovej obla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oznámenie sa s programátorským štýlom a architektúrou hráča tímu č.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ytvorenie štandardov pre 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vytvorenie základu finálneho produ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33F-A8AD-42B9-9061-DBC5526B27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Zmeny oproti pôvodnému hráčovi Tímu 4/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1859040"/>
            <a:ext cx="7467840" cy="45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ylepšenie základných schopností hráč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ľadanie lopty, ohodnocovanie situ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zhodovanie na základe pravidi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Možnosť zmeny rozhodovania bez nutnosti rekompilá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odulárna architektú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mostatný modul odvodzov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delené moduly pre získavanie údajov z modelu s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apuzdrenie základných schop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E1ED-C6F2-45E7-985D-28B5F9984CA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Základné schopnos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Zapuzdrenie v samostatných tried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Kick, CDribble, CMove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aždá trieda realizuje schopnosť pomocou elementárnych akc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dpora pre viacero typov jednej základnej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oalKick, TeamMateKick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Variabilný zoznam parametrov pre vykon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dpora pre plánovanie akc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D79A-B6E6-4E00-A3C1-A51B7BAD9D7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Nová hierarchia tri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71640" y="11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ZákladnéSchopnosti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943600" cy="492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3754-CB87-4B8E-A57D-3D1CFA47DA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RulePars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avidlá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uložené v diskovom súb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zápis v jazyku založenom na X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Implement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amostatný modul - nezávislý od hráča a jeho modelu sve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užiteľný pre všetky úrovne rozhodov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Rozhranie s okolí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mocou jednotného rozhrania - triedy CQu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Atribú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dpora pre sekvencie akc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arametrizované akc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typy parametr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3516-A29E-4DA8-B07B-68E72F2066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Rozhranie medzi rozhodovaním a svetom hráč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efiní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omocou abstraktnej triedy C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Forma rozhr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otazy na vnútorný svet hráč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Definovaná množina dotaz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racia ohodnotenie term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Znovupoužiteľnos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Možnosť vytvoriť rozhrania pre rôzne rozhodov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B1EE-814B-4BC3-92E1-8FD97EF580E5}" type="slidenum">
              <a:t>7</a:t>
            </a:fld>
          </a:p>
        </p:txBody>
      </p:sp>
    </p:spTree>
  </p:cSld>
  <p:transition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6T23:00:08Z</dcterms:created>
  <dc:creator>Roman Kubascik</dc:creator>
  <dc:description/>
  <dc:language>en-US</dc:language>
  <cp:lastModifiedBy>kostelni</cp:lastModifiedBy>
  <dcterms:modified xsi:type="dcterms:W3CDTF">2001-12-17T12:13:44Z</dcterms:modified>
  <cp:revision>82</cp:revision>
  <dc:subject/>
  <dc:title>RoboCup – Inteligencia hráča</dc:title>
</cp:coreProperties>
</file>