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1B2-9A3C-45A8-BDF4-D42C6000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744840"/>
            <a:ext cx="58291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68E-4A10-44A0-968C-3141783C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744840"/>
            <a:ext cx="58291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AE9-D497-464E-8F94-AEFFB168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744840"/>
            <a:ext cx="58291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4DB-E9F2-4268-8327-21879A52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744840"/>
            <a:ext cx="58291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43F-BD9C-462E-A556-16A75FB6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744840"/>
            <a:ext cx="58291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D7B-B029-4206-BBE3-CE561BBD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744840"/>
            <a:ext cx="58291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4F4-532A-4FE8-ABAD-00F86FC3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744840"/>
            <a:ext cx="58291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B9B-C8C2-4999-833E-3EF5BBB0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980-EC0D-4205-A603-0BEB49DE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744840"/>
            <a:ext cx="58291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E0C-2850-4DE9-A90B-C0F5A685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744840"/>
            <a:ext cx="58291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5E4-4F32-4A4A-A68D-05A12A73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744840"/>
            <a:ext cx="58291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360-2C3D-4286-81A0-61CEC0E5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24B3-2F0A-4F47-ACA2-A02A799126B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ayGround" descr=""/>
          <p:cNvPicPr/>
          <p:nvPr/>
        </p:nvPicPr>
        <p:blipFill>
          <a:blip r:embed="rId1"/>
          <a:stretch/>
        </p:blipFill>
        <p:spPr>
          <a:xfrm>
            <a:off x="139680" y="133200"/>
            <a:ext cx="6577200" cy="9637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80880" y="94248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Kolenn</a:t>
            </a:r>
            <a:r>
              <a:rPr b="1" lang="sk-SK" sz="4800" spc="-1" strike="noStrike">
                <a:solidFill>
                  <a:srgbClr val="000000"/>
                </a:solidFill>
                <a:latin typeface="Verdana"/>
              </a:rPr>
              <a:t>ý pás doktora Levina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ww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dcs.elf.stuba.s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amProject/20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team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5324400" y="0"/>
            <a:ext cx="145440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c0c0c0"/>
                </a:solidFill>
                <a:latin typeface="Verdana"/>
              </a:rPr>
              <a:t>t</a:t>
            </a:r>
            <a:r>
              <a:rPr b="1" lang="sk-SK" sz="3800" spc="-1" strike="noStrike">
                <a:solidFill>
                  <a:srgbClr val="c0c0c0"/>
                </a:solidFill>
                <a:latin typeface="Verdana"/>
              </a:rPr>
              <a:t>í</a:t>
            </a:r>
            <a:r>
              <a:rPr b="1" lang="en-US" sz="3800" spc="-1" strike="noStrike">
                <a:solidFill>
                  <a:srgbClr val="c0c0c0"/>
                </a:solidFill>
                <a:latin typeface="Verdana"/>
              </a:rPr>
              <a:t>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0" spc="-1" strike="noStrike">
                <a:solidFill>
                  <a:srgbClr val="c0c0c0"/>
                </a:solidFill>
                <a:latin typeface="Verdana"/>
              </a:rPr>
              <a:t>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73200" y="79088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o</a:t>
            </a:r>
            <a:r>
              <a:rPr b="1" lang="sk-SK" sz="2000" spc="-1" strike="noStrike">
                <a:solidFill>
                  <a:srgbClr val="000000"/>
                </a:solidFill>
                <a:latin typeface="Verdana"/>
              </a:rPr>
              <a:t>žo Drgoň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dokumentá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0240" y="6400800"/>
            <a:ext cx="208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ado Kostelní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vedúci tí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0440" y="722304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oman Kubaščí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programá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9240" y="7223040"/>
            <a:ext cx="17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Maťo Sp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programá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1560" y="5638680"/>
            <a:ext cx="282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Tono Weissenste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návrhá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37520" y="5622840"/>
            <a:ext cx="175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ado Otip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návrhá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4200" y="876312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g. Ivan Kapus</a:t>
            </a:r>
            <a:r>
              <a:rPr b="1" lang="sk-SK" sz="2000" spc="-1" strike="noStrike">
                <a:solidFill>
                  <a:srgbClr val="000000"/>
                </a:solidFill>
                <a:latin typeface="Verdana"/>
              </a:rPr>
              <a:t>tí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Verdana"/>
              </a:rPr>
              <a:t>men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Cfed_S" descr=""/>
          <p:cNvPicPr/>
          <p:nvPr/>
        </p:nvPicPr>
        <p:blipFill>
          <a:blip r:embed="rId2"/>
          <a:stretch/>
        </p:blipFill>
        <p:spPr>
          <a:xfrm>
            <a:off x="2484360" y="685800"/>
            <a:ext cx="18972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21:54:55Z</dcterms:created>
  <dc:creator>MaJu</dc:creator>
  <dc:description/>
  <dc:language>en-US</dc:language>
  <cp:lastModifiedBy>Weiss</cp:lastModifiedBy>
  <dcterms:modified xsi:type="dcterms:W3CDTF">2001-10-22T18:26:35Z</dcterms:modified>
  <cp:revision>11</cp:revision>
  <dc:subject/>
  <dc:title>Bez nadpisu</dc:title>
</cp:coreProperties>
</file>