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AE5-E74F-4149-9087-18D0C54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EB9-84B8-4C37-8C0D-D2FADFB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422-436E-42AB-B6A8-92CDB358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31C-1215-4167-AB74-AC7FE27E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7FA-3D34-41F3-9E78-E898411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12320" y="380880"/>
            <a:ext cx="5845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9C5-49FB-4C2A-9064-9361A81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0F4-CCEA-4A71-8AA3-D22AA43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BA7-3FA7-4DDA-97EA-623B847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957-6B51-4150-83DA-39C5DEB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90A-831B-481E-9F14-8EAA3B5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9A1-E2A4-4B3E-9930-4715BA80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378-0355-4F87-BEDE-C43CA942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12320" y="380880"/>
            <a:ext cx="5845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6520" y="304920"/>
            <a:ext cx="297000" cy="4600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23800" y="304920"/>
            <a:ext cx="238320" cy="46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762120"/>
            <a:ext cx="279360" cy="614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762120"/>
            <a:ext cx="230400" cy="61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33520"/>
            <a:ext cx="420840" cy="610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0680" y="276120"/>
            <a:ext cx="42840" cy="11430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1066680"/>
            <a:ext cx="61707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3522600"/>
            <a:ext cx="6756120" cy="1518840"/>
            <a:chOff x="0" y="3522600"/>
            <a:chExt cx="6756120" cy="1518840"/>
          </a:xfrm>
        </p:grpSpPr>
        <p:grpSp>
          <p:nvGrpSpPr>
            <p:cNvPr id="46" name=""/>
            <p:cNvGrpSpPr/>
            <p:nvPr/>
          </p:nvGrpSpPr>
          <p:grpSpPr>
            <a:xfrm>
              <a:off x="217800" y="3678120"/>
              <a:ext cx="532800" cy="685080"/>
              <a:chOff x="217800" y="3678120"/>
              <a:chExt cx="532800" cy="685080"/>
            </a:xfrm>
          </p:grpSpPr>
          <p:sp>
            <p:nvSpPr>
              <p:cNvPr id="47" name=""/>
              <p:cNvSpPr/>
              <p:nvPr/>
            </p:nvSpPr>
            <p:spPr>
              <a:xfrm>
                <a:off x="217800" y="3678120"/>
                <a:ext cx="327960" cy="685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04720" y="3678120"/>
                <a:ext cx="245880" cy="685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10680" y="4287600"/>
              <a:ext cx="552960" cy="685080"/>
              <a:chOff x="310680" y="4287600"/>
              <a:chExt cx="552960" cy="685080"/>
            </a:xfrm>
          </p:grpSpPr>
          <p:sp>
            <p:nvSpPr>
              <p:cNvPr id="50" name=""/>
              <p:cNvSpPr/>
              <p:nvPr/>
            </p:nvSpPr>
            <p:spPr>
              <a:xfrm>
                <a:off x="310680" y="4287600"/>
                <a:ext cx="316080" cy="6850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7160" y="4287600"/>
                <a:ext cx="276480" cy="685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4182120"/>
              <a:ext cx="420120" cy="609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" y="3522600"/>
              <a:ext cx="23400" cy="1518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36880" y="4709160"/>
              <a:ext cx="6519240" cy="7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6416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426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25718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51436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10B5-D48A-480C-BC68-800C44FEEC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Simulácia robotického futbalu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668600"/>
            <a:ext cx="62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333399"/>
                </a:solidFill>
                <a:uFillTx/>
                <a:latin typeface="Arial"/>
              </a:rPr>
              <a:t>Členovia tím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7160" y="2192400"/>
            <a:ext cx="23655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Ľuboš Bal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Marián Bobr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Peter Fra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Gabriel P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rial"/>
              </a:rPr>
              <a:t>Ján Pid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9880" y="4246560"/>
            <a:ext cx="62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333399"/>
                </a:solidFill>
                <a:uFillTx/>
                <a:latin typeface="Arial"/>
              </a:rPr>
              <a:t>Čo môžeme poskytnúť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2480" y="4770360"/>
            <a:ext cx="56595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kúsenosti z robotického futbalu a umelej inteligenci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é pracovné nasadeni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vorivý príst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5200" y="6234120"/>
            <a:ext cx="62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333399"/>
                </a:solidFill>
                <a:uFillTx/>
                <a:latin typeface="Arial"/>
              </a:rPr>
              <a:t>Úvahy o návrh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7800" y="6772320"/>
            <a:ext cx="56592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ojvrstvová aplikác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vá vrstva: komunikácia so serverom a základné výpo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 pozícií objekto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ruhá vrstva: výpočet pohybu, analýza situ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etia vrstva: rozhodovanie o stratég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06440" y="2349360"/>
            <a:ext cx="6235560" cy="1473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440" y="4051440"/>
            <a:ext cx="6235560" cy="14731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Simulácia robotického futbalu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440" y="5753160"/>
            <a:ext cx="6235560" cy="14731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rolml330" descr=""/>
          <p:cNvPicPr/>
          <p:nvPr/>
        </p:nvPicPr>
        <p:blipFill>
          <a:blip r:embed="rId1"/>
          <a:stretch/>
        </p:blipFill>
        <p:spPr>
          <a:xfrm>
            <a:off x="936720" y="7853400"/>
            <a:ext cx="1160280" cy="154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08160" y="7315200"/>
            <a:ext cx="1549440" cy="1359000"/>
          </a:xfrm>
          <a:custGeom>
            <a:avLst/>
            <a:gdLst>
              <a:gd name="textAreaLeft" fmla="*/ 528480 w 1549440"/>
              <a:gd name="textAreaRight" fmla="*/ 1392480 w 1549440"/>
              <a:gd name="textAreaTop" fmla="*/ 1165680 h 1359000"/>
              <a:gd name="textAreaBottom" fmla="*/ 122112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18967"/>
                </a:moveTo>
                <a:lnTo>
                  <a:pt x="7368" y="16333"/>
                </a:lnTo>
                <a:lnTo>
                  <a:pt x="7368" y="18524"/>
                </a:lnTo>
                <a:lnTo>
                  <a:pt x="18524" y="18524"/>
                </a:lnTo>
                <a:lnTo>
                  <a:pt x="18524" y="7368"/>
                </a:lnTo>
                <a:lnTo>
                  <a:pt x="16333" y="7368"/>
                </a:lnTo>
                <a:lnTo>
                  <a:pt x="18967" y="0"/>
                </a:lnTo>
                <a:lnTo>
                  <a:pt x="21600" y="7368"/>
                </a:lnTo>
                <a:lnTo>
                  <a:pt x="19409" y="7368"/>
                </a:lnTo>
                <a:lnTo>
                  <a:pt x="19409" y="19409"/>
                </a:lnTo>
                <a:lnTo>
                  <a:pt x="7368" y="19409"/>
                </a:lnTo>
                <a:lnTo>
                  <a:pt x="736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148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575316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 u="sng">
                <a:solidFill>
                  <a:srgbClr val="ff0000"/>
                </a:solidFill>
                <a:uFillTx/>
                <a:latin typeface="Arial"/>
              </a:rPr>
              <a:t>Vrstva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405144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 u="sng">
                <a:solidFill>
                  <a:srgbClr val="ff0000"/>
                </a:solidFill>
                <a:uFillTx/>
                <a:latin typeface="Arial"/>
              </a:rPr>
              <a:t>Vrstva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040" y="234936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 u="sng">
                <a:solidFill>
                  <a:srgbClr val="ff0000"/>
                </a:solidFill>
                <a:uFillTx/>
                <a:latin typeface="Arial"/>
              </a:rPr>
              <a:t>Vrstva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5962680" y="5403960"/>
            <a:ext cx="419040" cy="419040"/>
          </a:xfrm>
          <a:custGeom>
            <a:avLst/>
            <a:gdLst>
              <a:gd name="textAreaLeft" fmla="*/ 65520 w 419040"/>
              <a:gd name="textAreaRight" fmla="*/ 381240 w 419040"/>
              <a:gd name="textAreaTop" fmla="*/ 133200 h 419040"/>
              <a:gd name="textAreaBottom" fmla="*/ 285840 h 419040"/>
            </a:gdLst>
            <a:ahLst/>
            <a:rect l="textAreaLeft" t="textAreaTop" r="textAreaRight" b="textAreaBottom"/>
            <a:pathLst>
              <a:path w="21600" h="21600">
                <a:moveTo>
                  <a:pt x="3375" y="6878"/>
                </a:moveTo>
                <a:lnTo>
                  <a:pt x="16200" y="6878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4722"/>
                </a:lnTo>
                <a:lnTo>
                  <a:pt x="3375" y="14722"/>
                </a:lnTo>
                <a:close/>
              </a:path>
              <a:path w="21600" h="21600">
                <a:moveTo>
                  <a:pt x="0" y="6878"/>
                </a:moveTo>
                <a:lnTo>
                  <a:pt x="675" y="6878"/>
                </a:lnTo>
                <a:lnTo>
                  <a:pt x="675" y="14722"/>
                </a:lnTo>
                <a:lnTo>
                  <a:pt x="0" y="14722"/>
                </a:lnTo>
                <a:close/>
              </a:path>
              <a:path w="21600" h="21600">
                <a:moveTo>
                  <a:pt x="1350" y="6878"/>
                </a:moveTo>
                <a:lnTo>
                  <a:pt x="2700" y="6878"/>
                </a:lnTo>
                <a:lnTo>
                  <a:pt x="2700" y="14722"/>
                </a:lnTo>
                <a:lnTo>
                  <a:pt x="1350" y="1472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5816520"/>
            <a:ext cx="280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loha a rýchlosť hráčov a lopty na ihri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08440" y="862344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omunikácia so serve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78160"/>
            <a:ext cx="26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sah hráčov, prekrytie, optimálna trajekt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5950080" y="3727440"/>
            <a:ext cx="419040" cy="419040"/>
          </a:xfrm>
          <a:custGeom>
            <a:avLst/>
            <a:gdLst>
              <a:gd name="textAreaLeft" fmla="*/ 65520 w 419040"/>
              <a:gd name="textAreaRight" fmla="*/ 381240 w 419040"/>
              <a:gd name="textAreaTop" fmla="*/ 133200 h 419040"/>
              <a:gd name="textAreaBottom" fmla="*/ 285840 h 419040"/>
            </a:gdLst>
            <a:ahLst/>
            <a:rect l="textAreaLeft" t="textAreaTop" r="textAreaRight" b="textAreaBottom"/>
            <a:pathLst>
              <a:path w="21600" h="21600">
                <a:moveTo>
                  <a:pt x="3375" y="6878"/>
                </a:moveTo>
                <a:lnTo>
                  <a:pt x="16200" y="6878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4722"/>
                </a:lnTo>
                <a:lnTo>
                  <a:pt x="3375" y="14722"/>
                </a:lnTo>
                <a:close/>
              </a:path>
              <a:path w="21600" h="21600">
                <a:moveTo>
                  <a:pt x="0" y="6878"/>
                </a:moveTo>
                <a:lnTo>
                  <a:pt x="675" y="6878"/>
                </a:lnTo>
                <a:lnTo>
                  <a:pt x="675" y="14722"/>
                </a:lnTo>
                <a:lnTo>
                  <a:pt x="0" y="14722"/>
                </a:lnTo>
                <a:close/>
              </a:path>
              <a:path w="21600" h="21600">
                <a:moveTo>
                  <a:pt x="1350" y="6878"/>
                </a:moveTo>
                <a:lnTo>
                  <a:pt x="2700" y="6878"/>
                </a:lnTo>
                <a:lnTo>
                  <a:pt x="2700" y="14722"/>
                </a:lnTo>
                <a:lnTo>
                  <a:pt x="1350" y="1472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440" y="6019920"/>
            <a:ext cx="278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omunikácia so serverom a základné výpo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č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ty pozícií 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hráčov a lo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440" y="4330800"/>
            <a:ext cx="287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ýpo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č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et pohybu, analýza situ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40" y="2654280"/>
            <a:ext cx="25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sk-SK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ozhodovanie o stratég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30320" y="12700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Úvahy o návrh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 rot="16200000">
            <a:off x="2189880" y="3752640"/>
            <a:ext cx="419040" cy="419400"/>
          </a:xfrm>
          <a:custGeom>
            <a:avLst/>
            <a:gdLst>
              <a:gd name="textAreaLeft" fmla="*/ 65880 w 419040"/>
              <a:gd name="textAreaRight" fmla="*/ 381600 w 419040"/>
              <a:gd name="textAreaTop" fmla="*/ 133560 h 419400"/>
              <a:gd name="textAreaBottom" fmla="*/ 285840 h 419400"/>
            </a:gdLst>
            <a:ahLst/>
            <a:rect l="textAreaLeft" t="textAreaTop" r="textAreaRight" b="textAreaBottom"/>
            <a:pathLst>
              <a:path w="21600" h="21600">
                <a:moveTo>
                  <a:pt x="3375" y="6878"/>
                </a:moveTo>
                <a:lnTo>
                  <a:pt x="16200" y="6878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4722"/>
                </a:lnTo>
                <a:lnTo>
                  <a:pt x="3375" y="14722"/>
                </a:lnTo>
                <a:close/>
              </a:path>
              <a:path w="21600" h="21600">
                <a:moveTo>
                  <a:pt x="0" y="6878"/>
                </a:moveTo>
                <a:lnTo>
                  <a:pt x="675" y="6878"/>
                </a:lnTo>
                <a:lnTo>
                  <a:pt x="675" y="14722"/>
                </a:lnTo>
                <a:lnTo>
                  <a:pt x="0" y="14722"/>
                </a:lnTo>
                <a:close/>
              </a:path>
              <a:path w="21600" h="21600">
                <a:moveTo>
                  <a:pt x="1350" y="6878"/>
                </a:moveTo>
                <a:lnTo>
                  <a:pt x="2700" y="6878"/>
                </a:lnTo>
                <a:lnTo>
                  <a:pt x="2700" y="14722"/>
                </a:lnTo>
                <a:lnTo>
                  <a:pt x="1350" y="1472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74640" y="3390840"/>
            <a:ext cx="36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ríkazy pohybu hráča po drá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 rot="16200000">
            <a:off x="2189880" y="5466960"/>
            <a:ext cx="419040" cy="419400"/>
          </a:xfrm>
          <a:custGeom>
            <a:avLst/>
            <a:gdLst>
              <a:gd name="textAreaLeft" fmla="*/ 65880 w 419040"/>
              <a:gd name="textAreaRight" fmla="*/ 381600 w 419040"/>
              <a:gd name="textAreaTop" fmla="*/ 133560 h 419400"/>
              <a:gd name="textAreaBottom" fmla="*/ 285840 h 419400"/>
            </a:gdLst>
            <a:ahLst/>
            <a:rect l="textAreaLeft" t="textAreaTop" r="textAreaRight" b="textAreaBottom"/>
            <a:pathLst>
              <a:path w="21600" h="21600">
                <a:moveTo>
                  <a:pt x="3375" y="6878"/>
                </a:moveTo>
                <a:lnTo>
                  <a:pt x="16200" y="6878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4722"/>
                </a:lnTo>
                <a:lnTo>
                  <a:pt x="3375" y="14722"/>
                </a:lnTo>
                <a:close/>
              </a:path>
              <a:path w="21600" h="21600">
                <a:moveTo>
                  <a:pt x="0" y="6878"/>
                </a:moveTo>
                <a:lnTo>
                  <a:pt x="675" y="6878"/>
                </a:lnTo>
                <a:lnTo>
                  <a:pt x="675" y="14722"/>
                </a:lnTo>
                <a:lnTo>
                  <a:pt x="0" y="14722"/>
                </a:lnTo>
                <a:close/>
              </a:path>
              <a:path w="21600" h="21600">
                <a:moveTo>
                  <a:pt x="1350" y="6878"/>
                </a:moveTo>
                <a:lnTo>
                  <a:pt x="2700" y="6878"/>
                </a:lnTo>
                <a:lnTo>
                  <a:pt x="2700" y="14722"/>
                </a:lnTo>
                <a:lnTo>
                  <a:pt x="1350" y="1472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4640" y="5143680"/>
            <a:ext cx="36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ákladné príkazy pre hráč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2320" y="380880"/>
            <a:ext cx="584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Simulácia robotického futbalu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25760" y="12841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tu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ácia na ihris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football2-print" descr=""/>
          <p:cNvPicPr/>
          <p:nvPr/>
        </p:nvPicPr>
        <p:blipFill>
          <a:blip r:embed="rId1"/>
          <a:stretch/>
        </p:blipFill>
        <p:spPr>
          <a:xfrm>
            <a:off x="395280" y="2220840"/>
            <a:ext cx="6134040" cy="4089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6680" y="7068960"/>
            <a:ext cx="6065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akej trajektórii by sa mal pohybovať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áč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aby bola dráha optimálna pre prechod z jednej situácie do druh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ré trajektórie pohybu sú hraničné pre jednotlivé budúce situácie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k kopnem loptu o kúsok v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ľa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 bude gól, ak o kúsok v pravo, súper získa lopt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4:42:03Z</dcterms:created>
  <dc:creator>jeeff</dc:creator>
  <dc:description/>
  <dc:language>en-US</dc:language>
  <cp:lastModifiedBy>NT</cp:lastModifiedBy>
  <dcterms:modified xsi:type="dcterms:W3CDTF">2000-10-09T18:04:25Z</dcterms:modified>
  <cp:revision>14</cp:revision>
  <dc:subject/>
  <dc:title>PowerPoint Presentation</dc:title>
</cp:coreProperties>
</file>