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36228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ber a spracovanie normatívnych EMG d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m" descr=""/>
          <p:cNvPicPr/>
          <p:nvPr/>
        </p:nvPicPr>
        <p:blipFill>
          <a:blip r:embed="rId2"/>
          <a:stretch/>
        </p:blipFill>
        <p:spPr>
          <a:xfrm>
            <a:off x="1600200" y="6210360"/>
            <a:ext cx="14479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ber a spracovanie normatívnych dát pre elektromyograf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a projektu: Ing. Mária Smolá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1. jú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73356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DM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funk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vanie požiadav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vanie statických štruktú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požiadaviek do lokálnych prac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testov z lokálnych prac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ranie prijatých tes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áranie prehľadov o stave zb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munikácia pomocou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995560"/>
            <a:ext cx="281952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ntrálna apl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048120"/>
            <a:ext cx="281952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okálna apl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ster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209680"/>
            <a:ext cx="3886200" cy="755640"/>
          </a:xfrm>
          <a:custGeom>
            <a:avLst/>
            <a:gdLst>
              <a:gd name="textAreaLeft" fmla="*/ 745200 w 3886200"/>
              <a:gd name="textAreaRight" fmla="*/ 2728080 w 3886200"/>
              <a:gd name="textAreaTop" fmla="*/ 101160 h 755640"/>
              <a:gd name="textAreaBottom" fmla="*/ 6544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5" hR="21600" stAng="10800000" swAng="5400000"/>
                <a:lnTo>
                  <a:pt x="11021" y="0"/>
                </a:lnTo>
                <a:arcTo wR="8285" hR="21600" stAng="-5400000" swAng="2243739"/>
                <a:lnTo>
                  <a:pt x="20720" y="11913"/>
                </a:lnTo>
                <a:lnTo>
                  <a:pt x="17938" y="21600"/>
                </a:lnTo>
                <a:lnTo>
                  <a:pt x="13396" y="11913"/>
                </a:lnTo>
                <a:lnTo>
                  <a:pt x="15690" y="11913"/>
                </a:lnTo>
                <a:arcTo wR="8285" hR="21600" stAng="-3156261" swAng="-2023288"/>
                <a:lnTo>
                  <a:pt x="9653" y="296"/>
                </a:lnTo>
                <a:arcTo wR="8285" hR="21600" stAng="-5620451" swAng="-5179549"/>
                <a:close/>
              </a:path>
              <a:path fill="darkenLess" w="21600" h="21600">
                <a:moveTo>
                  <a:pt x="0" y="21600"/>
                </a:moveTo>
                <a:arcTo wR="8285" hR="21600" stAng="10800000" swAng="5400000"/>
                <a:lnTo>
                  <a:pt x="8285" y="0"/>
                </a:lnTo>
                <a:arcTo wR="8285" hR="21600" stAng="-5400000" swAng="220451"/>
                <a:lnTo>
                  <a:pt x="9653" y="296"/>
                </a:lnTo>
                <a:arcTo wR="8285" hR="21600" stAng="-5620451" swAng="-5179549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525040" y="4367160"/>
            <a:ext cx="3886200" cy="920880"/>
          </a:xfrm>
          <a:custGeom>
            <a:avLst/>
            <a:gdLst>
              <a:gd name="textAreaLeft" fmla="*/ 744840 w 3886200"/>
              <a:gd name="textAreaRight" fmla="*/ 2727720 w 3886200"/>
              <a:gd name="textAreaTop" fmla="*/ 123120 h 920880"/>
              <a:gd name="textAreaBottom" fmla="*/ 797760 h 92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5" hR="21600" stAng="10800000" swAng="5400000"/>
                <a:lnTo>
                  <a:pt x="11021" y="0"/>
                </a:lnTo>
                <a:arcTo wR="8285" hR="21600" stAng="-5400000" swAng="2243739"/>
                <a:lnTo>
                  <a:pt x="20720" y="11913"/>
                </a:lnTo>
                <a:lnTo>
                  <a:pt x="17938" y="21600"/>
                </a:lnTo>
                <a:lnTo>
                  <a:pt x="13396" y="11913"/>
                </a:lnTo>
                <a:lnTo>
                  <a:pt x="15690" y="11913"/>
                </a:lnTo>
                <a:arcTo wR="8285" hR="21600" stAng="-3156261" swAng="-2023288"/>
                <a:lnTo>
                  <a:pt x="9653" y="296"/>
                </a:lnTo>
                <a:arcTo wR="8285" hR="21600" stAng="-5620451" swAng="-5179549"/>
                <a:close/>
              </a:path>
              <a:path fill="darkenLess" w="21600" h="21600">
                <a:moveTo>
                  <a:pt x="0" y="21600"/>
                </a:moveTo>
                <a:arcTo wR="8285" hR="21600" stAng="10800000" swAng="5400000"/>
                <a:lnTo>
                  <a:pt x="8285" y="0"/>
                </a:lnTo>
                <a:arcTo wR="8285" hR="21600" stAng="-5400000" swAng="220451"/>
                <a:lnTo>
                  <a:pt x="9653" y="296"/>
                </a:lnTo>
                <a:arcTo wR="8285" hR="21600" stAng="-5620451" swAng="-5179549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8080" y="175248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or požiadav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61040" y="528624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or odpov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úbor požiadaviek 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(request 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5760" y="2128680"/>
            <a:ext cx="137160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24717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420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95760" y="2814480"/>
            <a:ext cx="137160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3751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438960" y="420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5760" y="3408480"/>
            <a:ext cx="13716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81560" y="317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208400"/>
            <a:ext cx="400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437000"/>
            <a:ext cx="21718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81360" y="525780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5960" y="4437000"/>
            <a:ext cx="217152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896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10160" y="5257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95760" y="5600880"/>
            <a:ext cx="16002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10360" y="52574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5600880"/>
            <a:ext cx="14860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96080" y="52574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600880"/>
            <a:ext cx="16002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5600880"/>
            <a:ext cx="16002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81360" y="5257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úbor odpovedí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(response 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133720"/>
            <a:ext cx="14860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4541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797200"/>
            <a:ext cx="1752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390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619440"/>
            <a:ext cx="14860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162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57880" y="4191120"/>
            <a:ext cx="28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14880" y="4419720"/>
            <a:ext cx="21715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52196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76244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240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5583240"/>
            <a:ext cx="16002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5239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15080" y="5583240"/>
            <a:ext cx="14857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15280" y="5583240"/>
            <a:ext cx="16002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3280" y="3390840"/>
            <a:ext cx="40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43280" y="3390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3680" y="3619440"/>
            <a:ext cx="160020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4419720"/>
            <a:ext cx="182880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3600" y="396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5788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hodnot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hodný dátov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unkčná aplikácia N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unkčné prepojenie pomocou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dostatok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bs02064_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5812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lenovia tímu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c. Peter Fašun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– XML rozhr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c. Ondrej Kollárik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– používateľské rozhr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(Mgr. Peter Mišun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– analýza, náv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c. Szabolcs Molná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– dokumentácia, náv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c. Andrej Netr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– vedúci tímu, DB v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iele tímového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ystém zberu EMG údaj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átov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plikácia Normative Data Manager (N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pis komunikácie pomocou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hodnotenie výsledkov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iele tímovéh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nalýza minuloročných ri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h dátového modelu, architektúry systému a apliká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mplementácia aplikácie N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lupráca s tímom č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ystém zberu EMG údaj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905120"/>
            <a:ext cx="281916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ntrálna apl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981080"/>
            <a:ext cx="914400" cy="12146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34340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o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plikáci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24360" y="5129280"/>
            <a:ext cx="60948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34340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o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plikácia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43720" y="5129280"/>
            <a:ext cx="60984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00360" y="4494960"/>
            <a:ext cx="914400" cy="614520"/>
          </a:xfrm>
          <a:custGeom>
            <a:avLst/>
            <a:gdLst>
              <a:gd name="textAreaLeft" fmla="*/ 240840 w 914400"/>
              <a:gd name="textAreaRight" fmla="*/ 723960 w 914400"/>
              <a:gd name="textAreaTop" fmla="*/ 403560 h 614520"/>
              <a:gd name="textAreaBottom" fmla="*/ 486360 h 614520"/>
            </a:gdLst>
            <a:ahLst/>
            <a:rect l="textAreaLeft" t="textAreaTop" r="textAreaRight" b="textAreaBottom"/>
            <a:pathLst>
              <a:path w="21600" h="21600">
                <a:moveTo>
                  <a:pt x="0" y="15645"/>
                </a:moveTo>
                <a:lnTo>
                  <a:pt x="5693" y="9689"/>
                </a:lnTo>
                <a:lnTo>
                  <a:pt x="5693" y="14190"/>
                </a:lnTo>
                <a:lnTo>
                  <a:pt x="14190" y="14190"/>
                </a:lnTo>
                <a:lnTo>
                  <a:pt x="14190" y="5693"/>
                </a:lnTo>
                <a:lnTo>
                  <a:pt x="9689" y="5693"/>
                </a:lnTo>
                <a:lnTo>
                  <a:pt x="15645" y="0"/>
                </a:lnTo>
                <a:lnTo>
                  <a:pt x="21600" y="5693"/>
                </a:lnTo>
                <a:lnTo>
                  <a:pt x="17099" y="5693"/>
                </a:lnTo>
                <a:lnTo>
                  <a:pt x="17099" y="17099"/>
                </a:lnTo>
                <a:lnTo>
                  <a:pt x="5693" y="17099"/>
                </a:lnTo>
                <a:lnTo>
                  <a:pt x="5693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86600" y="4494960"/>
            <a:ext cx="914400" cy="614520"/>
          </a:xfrm>
          <a:custGeom>
            <a:avLst/>
            <a:gdLst>
              <a:gd name="textAreaLeft" fmla="*/ 240840 w 914400"/>
              <a:gd name="textAreaRight" fmla="*/ 723960 w 914400"/>
              <a:gd name="textAreaTop" fmla="*/ 403560 h 614520"/>
              <a:gd name="textAreaBottom" fmla="*/ 486360 h 614520"/>
            </a:gdLst>
            <a:ahLst/>
            <a:rect l="textAreaLeft" t="textAreaTop" r="textAreaRight" b="textAreaBottom"/>
            <a:pathLst>
              <a:path w="21600" h="21600">
                <a:moveTo>
                  <a:pt x="0" y="15645"/>
                </a:moveTo>
                <a:lnTo>
                  <a:pt x="5693" y="9689"/>
                </a:lnTo>
                <a:lnTo>
                  <a:pt x="5693" y="14190"/>
                </a:lnTo>
                <a:lnTo>
                  <a:pt x="14190" y="14190"/>
                </a:lnTo>
                <a:lnTo>
                  <a:pt x="14190" y="5693"/>
                </a:lnTo>
                <a:lnTo>
                  <a:pt x="9689" y="5693"/>
                </a:lnTo>
                <a:lnTo>
                  <a:pt x="15645" y="0"/>
                </a:lnTo>
                <a:lnTo>
                  <a:pt x="21600" y="5693"/>
                </a:lnTo>
                <a:lnTo>
                  <a:pt x="17099" y="5693"/>
                </a:lnTo>
                <a:lnTo>
                  <a:pt x="17099" y="17099"/>
                </a:lnTo>
                <a:lnTo>
                  <a:pt x="5693" y="17099"/>
                </a:lnTo>
                <a:lnTo>
                  <a:pt x="5693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191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0" idx="2"/>
            <a:endCxn id="52" idx="0"/>
          </p:cNvCxnSpPr>
          <p:nvPr/>
        </p:nvCxnSpPr>
        <p:spPr>
          <a:xfrm rot="5400000">
            <a:off x="1923480" y="3180960"/>
            <a:ext cx="114372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" name=""/>
          <p:cNvCxnSpPr>
            <a:stCxn id="50" idx="2"/>
            <a:endCxn id="55" idx="0"/>
          </p:cNvCxnSpPr>
          <p:nvPr/>
        </p:nvCxnSpPr>
        <p:spPr>
          <a:xfrm flipH="1" rot="16200000">
            <a:off x="4132800" y="2152440"/>
            <a:ext cx="1143720" cy="3238920"/>
          </a:xfrm>
          <a:prstGeom prst="curvedConnector5">
            <a:avLst>
              <a:gd name="adj1" fmla="val 49842"/>
              <a:gd name="adj2" fmla="val 50000"/>
              <a:gd name="adj3" fmla="val 4984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814760" y="33926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29360" y="3240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Návrh 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átov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é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chodi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ár pre manuálny z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rhnutý dátov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ár pre manuálny z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1752480"/>
          <a:ext cx="5449680" cy="45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54496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49400" y="1773360"/>
            <a:ext cx="3733560" cy="1371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676520"/>
            <a:ext cx="1981440" cy="817560"/>
          </a:xfrm>
          <a:prstGeom prst="wedgeRoundRectCallout">
            <a:avLst>
              <a:gd name="adj1" fmla="val -70430"/>
              <a:gd name="adj2" fmla="val 3427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ácie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entovi 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šetr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9400" y="3220920"/>
            <a:ext cx="373356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743200"/>
            <a:ext cx="1981440" cy="304920"/>
          </a:xfrm>
          <a:prstGeom prst="wedgeRoundRectCallout">
            <a:avLst>
              <a:gd name="adj1" fmla="val -70833"/>
              <a:gd name="adj2" fmla="val 14843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9400" y="3525840"/>
            <a:ext cx="579096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3352680"/>
            <a:ext cx="1218960" cy="304920"/>
          </a:xfrm>
          <a:prstGeom prst="wedgeRoundRectCallout">
            <a:avLst>
              <a:gd name="adj1" fmla="val -76564"/>
              <a:gd name="adj2" fmla="val 5677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truktú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9400" y="4135320"/>
            <a:ext cx="5790960" cy="2057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4114800"/>
            <a:ext cx="1218960" cy="304920"/>
          </a:xfrm>
          <a:prstGeom prst="wedgeRoundRectCallout">
            <a:avLst>
              <a:gd name="adj1" fmla="val -75912"/>
              <a:gd name="adj2" fmla="val 5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átový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767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žiadavi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276720"/>
            <a:ext cx="167616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žiada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2767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žiada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3"/>
            <a:endCxn id="79" idx="1"/>
          </p:cNvCxnSpPr>
          <p:nvPr/>
        </p:nvCxnSpPr>
        <p:spPr>
          <a:xfrm>
            <a:off x="2142720" y="3695400"/>
            <a:ext cx="4294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9" idx="3"/>
            <a:endCxn id="80" idx="1"/>
          </p:cNvCxnSpPr>
          <p:nvPr/>
        </p:nvCxnSpPr>
        <p:spPr>
          <a:xfrm>
            <a:off x="4285800" y="3695400"/>
            <a:ext cx="4294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2361600" y="3429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320" y="3429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1828800"/>
            <a:ext cx="167616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9" idx="0"/>
            <a:endCxn id="85" idx="2"/>
          </p:cNvCxnSpPr>
          <p:nvPr/>
        </p:nvCxnSpPr>
        <p:spPr>
          <a:xfrm flipV="1">
            <a:off x="3428640" y="26766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200040" y="29718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8288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ruktú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0"/>
            <a:endCxn id="88" idx="2"/>
          </p:cNvCxnSpPr>
          <p:nvPr/>
        </p:nvCxnSpPr>
        <p:spPr>
          <a:xfrm flipV="1">
            <a:off x="5562360" y="2676240"/>
            <a:ext cx="1080" cy="591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6781320" y="20574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440" y="312408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8288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80" idx="3"/>
            <a:endCxn id="92" idx="1"/>
          </p:cNvCxnSpPr>
          <p:nvPr/>
        </p:nvCxnSpPr>
        <p:spPr>
          <a:xfrm flipV="1">
            <a:off x="6409800" y="2247480"/>
            <a:ext cx="5911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5333400" y="266688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3400" y="29718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32767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7640" y="4572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0" idx="3"/>
            <a:endCxn id="96" idx="1"/>
          </p:cNvCxnSpPr>
          <p:nvPr/>
        </p:nvCxnSpPr>
        <p:spPr>
          <a:xfrm>
            <a:off x="6409800" y="369540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400440" y="4572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7242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dn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6" idx="1"/>
            <a:endCxn id="100" idx="3"/>
          </p:cNvCxnSpPr>
          <p:nvPr/>
        </p:nvCxnSpPr>
        <p:spPr>
          <a:xfrm flipH="1">
            <a:off x="6409800" y="3695760"/>
            <a:ext cx="5911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2590920" y="47242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79" idx="2"/>
            <a:endCxn id="102" idx="0"/>
          </p:cNvCxnSpPr>
          <p:nvPr/>
        </p:nvCxnSpPr>
        <p:spPr>
          <a:xfrm>
            <a:off x="3428640" y="413388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3200040" y="441936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7242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etr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5" idx="3"/>
            <a:endCxn id="102" idx="1"/>
          </p:cNvCxnSpPr>
          <p:nvPr/>
        </p:nvCxnSpPr>
        <p:spPr>
          <a:xfrm>
            <a:off x="2142720" y="5143320"/>
            <a:ext cx="43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2361600" y="487656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80" idx="2"/>
            <a:endCxn id="100" idx="0"/>
          </p:cNvCxnSpPr>
          <p:nvPr/>
        </p:nvCxnSpPr>
        <p:spPr>
          <a:xfrm>
            <a:off x="5562360" y="4123800"/>
            <a:ext cx="1080" cy="591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5333400" y="441936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7242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dn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med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6" idx="2"/>
            <a:endCxn id="110" idx="0"/>
          </p:cNvCxnSpPr>
          <p:nvPr/>
        </p:nvCxnSpPr>
        <p:spPr>
          <a:xfrm>
            <a:off x="7848360" y="4123800"/>
            <a:ext cx="1080" cy="591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619400" y="441936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0" idx="1"/>
            <a:endCxn id="80" idx="3"/>
          </p:cNvCxnSpPr>
          <p:nvPr/>
        </p:nvCxnSpPr>
        <p:spPr>
          <a:xfrm flipH="1" flipV="1">
            <a:off x="6409800" y="3695400"/>
            <a:ext cx="5911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2" idx="3"/>
            <a:endCxn id="100" idx="1"/>
          </p:cNvCxnSpPr>
          <p:nvPr/>
        </p:nvCxnSpPr>
        <p:spPr>
          <a:xfrm>
            <a:off x="4276440" y="5143320"/>
            <a:ext cx="43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495320" y="487656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320" y="3429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6400" y="3429000"/>
            <a:ext cx="18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DM - architektú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rchitektura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09:57:44Z</dcterms:created>
  <dc:creator>Kiri</dc:creator>
  <dc:description/>
  <dc:language>en-US</dc:language>
  <cp:lastModifiedBy>Andrej</cp:lastModifiedBy>
  <dcterms:modified xsi:type="dcterms:W3CDTF">2001-06-11T01:03:10Z</dcterms:modified>
  <cp:revision>28</cp:revision>
  <dc:subject/>
  <dc:title>Dátový model</dc:title>
</cp:coreProperties>
</file>